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C49-18E0-4B38-BD63-529DBE84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581-ED05-4E10-988A-F34FBD8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1D3-765E-4717-9B59-C7B710A9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4B1-9BD0-40F5-AB36-7228D502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6DEA-10E3-4548-B2D2-07751896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DE0-A196-4BB3-BB63-1A28C16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9F3-959B-4C3C-A997-DC18A678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147-58AB-483D-A505-7E41B4A3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DBD6-5391-4229-B748-196F58A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7D2B-BF3D-4686-8AAC-07C4931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3F52-0758-4627-8F44-3970626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285-7101-4029-8274-2A32F16D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37A-115C-448E-B310-D87097C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C374-AD60-400C-878C-64F49BD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8CCE-BF8E-41DF-8983-71019EE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C3D-58C0-41E5-8CEA-FF349D28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8FF-1419-41D7-B4D5-BC60AAFF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EEFD-D849-485E-B05A-828831B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F3A3-5B9C-4A7F-BE9B-4BA0979D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4E4B-916E-43A1-9678-9BD5060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985F-2EF0-4B8B-935A-04B0C08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FD32-3720-4A95-A224-3EB9AA8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3E4-5422-4647-A410-94B8D613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025B-5457-4CBC-B7D6-DE3D395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86D3-D4CB-4A7B-9BFA-D9A4B99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C4BB-9775-4C39-9194-AB414B0F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7D3E-4718-4819-9257-5D6B6EF4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ECA4-7F44-4A20-9BE9-55156F19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45BE-C260-4CD6-8F86-AFE4BCDE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53BD-3DB4-4912-BE09-3FF6BBB6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D60B-84B8-497D-9D0B-DA19AB88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3D50-F49E-415A-BA99-AFD30BF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21A7-2FBB-4398-A4DF-32F719A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612-B952-4BB4-AC06-54ECE6B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493E-377E-4080-9868-4B32D7D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B496-F504-4310-93FA-9E79BB2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9301-F006-42F3-AE70-BE36F57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12CA-DC0E-4FC8-8672-5CC9A33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B73E-B153-44B6-AB87-A829D7E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178E-75E9-4849-821F-7DA82A8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D771-C402-401E-8887-CD7B25E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E1EE-142F-4CD3-969F-B5930CC0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DEC2-9E9E-42DE-8182-1934448B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0CE61-AAB9-4711-89FE-169793A7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E1F-B5FE-4C45-BCE5-93D3690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2A73-EBE4-4AB7-9097-871A68F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96F3-1BD2-40A6-B27E-5BC77944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5034-84DE-421A-9A0A-0E665346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5B28-4D75-47DC-9146-C87B2223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815E-C4BA-4BF4-9989-D37241D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BD94-C0A7-4AB2-97D3-E9E96BB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DC3E-7E49-487B-9C90-CC52989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2FDE-E838-4400-BEB9-0D31469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BA36-5370-4E68-9A92-CC1A5EC5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EC26-04C6-4AC1-8FED-8D4101D1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59B-FAC0-4002-A83F-9761580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97FF4-076E-419E-B340-0172CB64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DC0F-FE59-4848-81F4-87FE88BB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8BE3-3C97-4DBF-B30F-A3432372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77D6-4DC0-44F5-80DD-72CFFDB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4D4E-007D-4061-A32C-83C989D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12BC-DD11-41B5-9569-FFF9BADC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D4FA-D525-4B35-B70B-041A2A6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FC71-DBDE-41ED-979A-1988B5A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5D3D-01FD-49D3-B156-6F638E4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FCC5-30A6-4B7B-BD71-5F95673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D75-C98C-42AE-A77B-065B226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653A-B154-41D2-8D1F-109DA9E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30E3-8E83-45D8-9646-95A3DB4E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8DAA-91B1-44E5-8CA6-8A2DCBF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20C77-C132-444A-BF5C-2DDE32F3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7105-1C93-4E3B-9853-9DED3754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D4EF-489A-497B-BA8F-1C33E09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F0BA-859B-4765-9CF1-4FA049FB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8D95-4974-4FA4-962E-3EC9A7E8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BC3B-FB1B-43F0-8B3D-49E850F2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A783-1425-4F57-B2BE-87FD179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9B6-8597-4DC5-AF17-57BAA7C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B9DD-84C4-43E3-BCDA-FE91F71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723B-250A-4C1E-8932-C547B60F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B593-1381-43D8-8978-0C3E62E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F7ED-A8C6-44D0-A6B2-74A0CF50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FEA42-86CA-4BD5-B53C-891ED0C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83957-5C42-4E50-AEDA-AC140E64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62CF-ECC2-4CC9-AB36-EE5999F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3494-96D0-48C2-969A-C8583DC2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73E7-CB1E-480B-8812-0D1F4638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BD8E-1EE7-434E-86E9-81A367CF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504-57E8-494A-9B97-FAEAA37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B512-63A3-4548-8B72-9985BC6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5E25-53C9-46E9-B295-62337A7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C979-901A-4E7A-AA17-4B791F3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4A28-D4B3-4B42-8FB9-B090D20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0580-3BCE-416F-BB7B-DF7AC423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DE23-9DC8-43FB-92A5-92D43449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FDE87-B3F5-47B4-998C-D531ACF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6AF9-DC6E-4DE1-8E71-DBDD2D3A4F3A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7DC-52C8-4B60-B8EF-5BC041709B60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FEA6-3769-4F33-846D-33C4D4A3AC1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248-5D58-4572-AAD8-1F50A52DC911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8939-612E-4C18-A7AE-0C745F71E86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29B-A504-4E09-8703-7ADCD8CF245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6C6-529D-495E-9E44-25552182C4B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C44-597A-49C0-A7AB-0D9AD90CF794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884160" y="420840"/>
            <a:ext cx="77662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ong and rambl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 woke up to find that I had grown long beautiful hair and was wearing a fantastic new ball gown and the crown had changed to be made of silver and when I ran to look out of the window I was looking at a completely new place and there were horses and glittering streams and birds all over the place and I was extremely happy about all that but I did not know anyone there at 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ecause I went there.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ountains during winter and just before the snow begins to f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erb err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e crystal  broken. (was broken, is broken, will be, can’t be, bro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 must of gone to the shop. (must have)</a:t>
            </a:r>
            <a:r>
              <a:rPr b="0" i="1" lang="en-US" sz="2700" spc="-1" strike="noStrike">
                <a:solidFill>
                  <a:srgbClr val="ff811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is an independent clau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can stand on its ow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makes complete sen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has only one verb or verb grou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The clause conveys a messag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, who is taking part and the circumstances surrounding the action </a:t>
            </a:r>
            <a:r>
              <a:rPr b="0" i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(how, when, where, why)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g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The students from Year 4 at Dee Why PS travelled to the Powerhouse Museum today by b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elect the simple sentenc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213920"/>
            <a:ext cx="87868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are simple sentences (independent clauses)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walking to the shop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boy with the blue jumper  ran down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boy wearing the blue jumper ran down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noise that came from the factory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having been to the fish market this morn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delicious aroma of baked bread from the bakery across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at large, vicious dog with shaggy hair keeps on chasing the poor postman awa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840" y="1142640"/>
            <a:ext cx="86439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The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verb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 is the engine house of our languag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357120" y="1785960"/>
            <a:ext cx="846000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bs are the basis of any message communicated. They provide movement or action or a sense of what is hap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57160" y="2786040"/>
            <a:ext cx="6912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are different types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ction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They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danced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ll nigh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ay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He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whispered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oftly.)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nk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he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forgot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is nam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eel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rah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likes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aked bean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lat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Cows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erbivorou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7143840" y="4643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400880" y="4869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sensing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2" descr=""/>
          <p:cNvPicPr/>
          <p:nvPr/>
        </p:nvPicPr>
        <p:blipFill>
          <a:blip r:embed="rId2"/>
          <a:stretch/>
        </p:blipFill>
        <p:spPr>
          <a:xfrm rot="20716800">
            <a:off x="3725640" y="5697360"/>
            <a:ext cx="523800" cy="719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1"/>
          <p:cNvSpPr/>
          <p:nvPr/>
        </p:nvSpPr>
        <p:spPr>
          <a:xfrm>
            <a:off x="4362480" y="585792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“A Grammar Companion” pages 54-6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A verb/verb group may consist of a single word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g He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rot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the lett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or a number of word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I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will be going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to the shop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He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might have been going to talk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They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were doing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their homework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Arial"/>
                <a:ea typeface="Arial"/>
              </a:rPr>
              <a:t>Activity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0000"/>
                </a:solidFill>
                <a:latin typeface="Arial"/>
                <a:ea typeface="Arial"/>
              </a:rPr>
              <a:t>Select the verb/verb groups from the passag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Focus on the author’s use of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lternative verb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for common words such as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ai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walked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Jointly develop a vocabulary cluster with the class, and prompt them to use these words in their own wri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.g. Words for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walked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from first few pages of David Legge’s 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Rise and Shine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78560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has a verb, and the verb usually has a subject and objec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"/>
          <p:cNvSpPr/>
          <p:nvPr/>
        </p:nvSpPr>
        <p:spPr>
          <a:xfrm>
            <a:off x="428760" y="620640"/>
            <a:ext cx="8246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Vocabulary Cluster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came slo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were l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cl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strode                                          h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276720" y="2924280"/>
            <a:ext cx="2735280" cy="11509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 flipH="1" flipV="1">
            <a:off x="1908000" y="2060640"/>
            <a:ext cx="165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 flipH="1" flipV="1">
            <a:off x="1499760" y="328572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012000" y="2785680"/>
            <a:ext cx="70308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 flipH="1">
            <a:off x="1785600" y="3789360"/>
            <a:ext cx="1562040" cy="4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H="1">
            <a:off x="3429000" y="4071960"/>
            <a:ext cx="720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5572080" y="3929040"/>
            <a:ext cx="793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428760" y="85716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7"/>
          <p:cNvSpPr/>
          <p:nvPr/>
        </p:nvSpPr>
        <p:spPr>
          <a:xfrm flipV="1">
            <a:off x="2000160" y="2214720"/>
            <a:ext cx="5357880" cy="3286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4000680" y="36432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3359520" y="4143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2643120" y="4500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14720" y="485784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714680" y="521496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w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4786200" y="3286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5357880" y="3000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5643720" y="27147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300720" y="2421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787080" y="20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g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y Margaret W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og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ru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strea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r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pe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scorc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pads 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a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00040" y="1285920"/>
            <a:ext cx="8229600" cy="1200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Nouns are words used to represent people, places, ideas and things. A noun answers the question “Who?” or “What?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928800" y="2714760"/>
            <a:ext cx="6912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are different types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mmon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girl, egg,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per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m, Wagga Wag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llective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crowd, swarm, t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bstract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dness, love, wo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2"/>
          <a:stretch/>
        </p:blipFill>
        <p:spPr>
          <a:xfrm rot="20984400">
            <a:off x="2995560" y="5543280"/>
            <a:ext cx="560520" cy="7920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3649680" y="578628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English Syllabus –Glossary definition page 9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 group of word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ing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is involved. It may include different types of articles (a, an, the), adjectives (describers),nouns linked together, adjectival phrases and claus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66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efore the nou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6666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g  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The pretty little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irl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 rode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her shiny new mountain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bike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66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After the nou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6666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g  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The pretty little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irl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with long brown hair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 rode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her mountain bike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"/>
          <p:cNvPicPr/>
          <p:nvPr/>
        </p:nvPicPr>
        <p:blipFill>
          <a:blip r:embed="rId2"/>
          <a:stretch/>
        </p:blipFill>
        <p:spPr>
          <a:xfrm rot="20984400">
            <a:off x="417240" y="5897520"/>
            <a:ext cx="515880" cy="7286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983520" y="587700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English Syll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Glossary definition page 9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"/>
          <p:cNvPicPr/>
          <p:nvPr/>
        </p:nvPicPr>
        <p:blipFill>
          <a:blip r:embed="rId3"/>
          <a:stretch/>
        </p:blipFill>
        <p:spPr>
          <a:xfrm rot="20716800">
            <a:off x="4211280" y="5805360"/>
            <a:ext cx="523800" cy="7192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8"/>
          <p:cNvSpPr/>
          <p:nvPr/>
        </p:nvSpPr>
        <p:spPr>
          <a:xfrm>
            <a:off x="4863600" y="587700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“A Grammar Companion” page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Wind in the Willows extrac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26431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elect the noun groups from the sen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phras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group of words that forms part of a sentenc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contain a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  the girl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ith long h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n the t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ate last nigh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looke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in the hou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me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t five o’clo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fter school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rossed the roa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ith ca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7f7f7f"/>
                </a:solidFill>
                <a:uFillTx/>
                <a:latin typeface="Arial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What is the difference between a clause and a phra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  <a:ea typeface="Arial"/>
              </a:rPr>
              <a:t>Activit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Sort the independent clauses and phrases into 2 group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 independent clau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verb/verb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noun/noun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clauses and phrases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g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anda held the book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an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o or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boo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may be impli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!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ay not be nee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e ran.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57176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) Ian Thorpe lived in Austral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) The extraordinarily fast, gold medal winner, Ian Thorpe, lived in Australia  with his mum, dad and sist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 simple sentence has only one verb/verb grou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 simple sentence is an independent clau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n independent clause is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asic unit of meanin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in English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01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Can stand on its ow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Makes complete sens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Has only </a:t>
            </a:r>
            <a:r>
              <a:rPr b="0" i="1" lang="en-AU" sz="4400" spc="-1" strike="noStrike">
                <a:solidFill>
                  <a:srgbClr val="ff0000"/>
                </a:solidFill>
                <a:latin typeface="Lucida Sans Unicode"/>
              </a:rPr>
              <a:t>one</a:t>
            </a: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 verb or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verb grou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57176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) Ian Thorpe lived in Austral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) The extraordinarily fast, gold medal winner, Ian Thorpe, lived in Australia  with his mum, dad and sist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3:59:17Z</dcterms:created>
  <dc:creator>mmawer</dc:creator>
  <dc:description/>
  <dc:language>en-US</dc:language>
  <cp:lastModifiedBy>mmawer</cp:lastModifiedBy>
  <dcterms:modified xsi:type="dcterms:W3CDTF">2010-07-23T00:11:21Z</dcterms:modified>
  <cp:revision>51</cp:revision>
  <dc:subject/>
  <dc:title>Simple sentences</dc:title>
</cp:coreProperties>
</file>